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E4341-698D-4DF4-A41B-CCFE6A61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41446-DB40-4C93-B258-A5751C89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13185-5C56-4545-83CB-80878A12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A1142-FCE1-4AB1-9BE9-8E4D25D6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2D91-CA59-4308-A99D-B1E6FA2B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1653-2A1E-4D31-B10D-911B0165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83AF-E531-47F9-87FE-CD8DA4D0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FCAD-C191-434F-B7FE-41F6EC8F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73A6-DC5E-4931-A68C-B060C027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3016-EFBE-4446-A47C-DB4BC113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BA6B-963E-4F26-B3E2-2DC7EC8F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73D49-CE50-4F88-82AE-4BD47D32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975D-5ED6-44FB-BBF6-13258F4A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6715-4340-47D3-A3C4-4897FD3F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35D4-F2AE-44E5-A3E0-8A3698E8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78CE-A0C7-4819-AEE5-54DD1A41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3761-D45A-42BD-98CE-3F32A3DC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89D2C-A780-4D22-8FB0-D737FC44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A3235-97EA-4B2B-8894-741C7C2F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73452-17BB-49C1-BF06-2701D100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89B58-AA02-41A2-A84C-122EC6D7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7C55A-DEE7-43D6-8DEB-2A0AD06F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C439F-7461-406E-97BA-C0CA3311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F2E93-BBB2-4863-AB3F-85F5B307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57CE-A362-4287-BFE4-DA76FC9306F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9F68-8565-474A-AD90-E04E499A63D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864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5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Пр.247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по претайни начи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и върши чудес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рви по морските вълн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ладее в небес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791360"/>
            <a:ext cx="957744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ълбоко в мудния вървеж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вечни веков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крие светлий Си кроеж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 туря в действие.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316880"/>
            <a:ext cx="95774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Дерзайте вий, страхливит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з тъмни облац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 пълни с милост; скоро т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ронят благост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316880"/>
            <a:ext cx="95774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. Недейте съди Господ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вярвайте в пок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вижте в ваш'та простот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сал любов е Т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316880"/>
            <a:ext cx="95774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5. Целта Си Бог от час на час показва наяве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рчи ли пъпката на вку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лодът й благ ще е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11-06T16:44:46Z</dcterms:modified>
  <cp:revision>92</cp:revision>
  <dc:subject/>
  <dc:title>Slide 1</dc:title>
</cp:coreProperties>
</file>